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199-3A84-4BD0-ADDE-94B8507A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02A-29F6-47D1-B5A3-1329254B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7CD7F-725B-44CD-90CA-13DB8E16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75978-33F9-4488-A897-C99C444D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81B3C-C8ED-401D-B016-E1AAE090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25D9A-2EBF-4E52-AD29-9F84ECBB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5D614-EE4B-41A0-885E-9983963D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B6170-953F-44BB-80F8-94778C26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E03DB-DA9F-4E10-82BE-A52DB46F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3DBF5-6B14-4BAE-A939-DFDC1533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7E5DE-CA68-4389-B717-86AC0350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FD74F-D64A-4235-A6C4-98C3CE42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805-7B8D-437A-8F47-1B0802F5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9346D-BF83-491D-8039-6AC34902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BD249-E6DB-448D-BCF4-0EE2E50B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1D521-536D-46E3-85F8-D8B9A24D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37B1D-92DB-4733-B741-716179AE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87E77-F96F-4D5E-807A-DEA16657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EC0BD-52DD-4348-A539-D6940F4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F7085-B3BE-49F3-B7F9-B17F144E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84656-FA9B-4711-A1C7-1613099A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64150-D8A2-401C-8E40-E77AF2FC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358FA-8A06-41B2-92FD-54463C73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C80-3E66-488B-85C7-370B7859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0953E-7EBA-4F9B-995D-F1292B9E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590CD-227B-46AA-B3A1-F50AB5E6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625D5-7B33-4544-8721-F0E0A4CE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9C446-1B3E-43E0-83F7-2122ACA5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41E2B-2BFE-4D41-902E-2D641CCF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C5397-1978-413C-9656-82C9E6CE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AE675-8A7E-464C-B3F1-41DB1063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C47A9-0BDA-414A-AAD4-309CA210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CE81C-83A0-41AE-8C3A-754040F1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EFD64-62D9-43EB-921F-3005044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3A80-CED0-4D0E-9C14-4B4EB7BA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3A38A-7624-4F2B-909C-52B176A3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7C509-D2B8-4A55-8AE6-1DF0997C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AF5A3-9D7A-40E7-A87D-2345D995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303A4-6CA6-4BA7-B751-14E61229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8395A-0F97-4052-91DC-B9AFFE15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196E6-DD2B-4790-82CB-4B10E72C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C09C4-3186-417C-ABD9-B37B948D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20AA6-9002-4A12-9C89-7D6A5C47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87C82-830C-4D53-A17F-86E29EA7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529CA-D3FB-42DA-94D4-CB00FAF2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3D51-D614-4D5B-9C30-B03D8441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E9741-169A-41BC-A80F-958D62E7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EEA29-3AD5-4AFA-96C8-24E47EED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CDD73-8C2E-407A-B0CF-33242EE4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F9D07-23A9-4CD4-A2A4-C1D902FE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56DC5-E190-4042-BA65-3F88427E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F45D1-F67F-41DA-A123-80790E0A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75B45-EC96-4193-B0C0-64D4E988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1028F-8010-4770-B624-4468D3B7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6143D-A980-412F-8248-7D7A538D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7329E-52A7-4501-B13E-EA93F44C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FEB5-9C8F-4EC5-8D59-0C2C4566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8575E-5D53-47B6-AA89-176281EE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8EDA3-1430-4FFF-B808-9675CC5B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10E9D-A8DF-4205-A2FF-05E5EBA3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9CDCC-7333-46C0-BDB0-0A88F69E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161EF-356D-44FE-A865-1BF87218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48800-F8C0-4A94-BF05-0E458AFD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31ACF-D225-4A73-BFCC-77FF6703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F3DE9-B889-4E0E-A9CF-C3B50343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521B7-6597-4DDC-AA01-A25717A4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04646-810B-46E3-BE8C-831BF6C1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E4D3-CA53-4D74-830B-6A8C7682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C8A6B-0B3A-429C-8E4F-C9A8D51B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79D7C-E404-4BA6-A8FC-9DE2DB8A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D98B2-3E26-486E-8047-9E535DF3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395A3-6145-412A-A82C-C464B938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834FC-EF7F-42AF-9098-52B9418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2EABF-113F-423C-913B-31AA32F8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83353-7004-4DD4-9AD0-56CC9808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AB5ED-0AB5-467F-B5B1-3D31B0C4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25EAD-7F94-453A-BCC6-4DD9B83E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E4C83B-A498-4142-9193-D76518F9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792C-3CAF-413C-8B3F-910D66FB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70714-1748-44EC-AB5A-E53550F8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6D869-7AC6-48E3-9F25-F59891C2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09052-8049-486D-8C3E-F7C5B2E0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337E0-E849-4690-9282-D45DA1C4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81531-4FBB-4D2E-B9D7-5097DE99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8AE67-6437-4F9A-A83D-7DE59CF4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DAE33-D0A0-434B-8BC7-9DE71AC4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7AE7E-2632-4342-B631-DB051105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D6721-C291-4F52-9F24-4E366B0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AC50E-A6C2-4AD8-AD0A-8A522478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A413-495D-498E-8F5E-793F8759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C274C-4739-4A5C-BAB5-1A24D6F2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180ED5-D0F1-43C7-9373-277554CC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F16F2-10DF-4F76-A070-128A75FE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963C25-F84A-438A-87A6-9A14A42D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38AC0-3D12-411B-A702-5324EE06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948B4-5E21-4C0A-8C2E-D8CA0C16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4A162-92DA-47CC-8A84-461DB6DC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B63E6-38C1-42F3-B27C-1C9DF761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E2EFB-7C6D-4B9F-B7D3-6AA9D18D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1C40F9-1DF1-4E93-A4E0-A617D67D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C850-03FD-40F0-B829-5238F4A9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2CC52-ECF5-4785-B778-B188946D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02333-510D-4FFE-A0D6-06943628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1D3C2-B718-49B8-A601-67222D82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79CE8-EE49-4E9F-BD82-4CCA0749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CFB24-7855-4202-A4DE-0B1FED97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7A50A9-7303-4E11-9F77-8E8DAD00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C42D5-4E4A-4CC4-9208-B0CCD125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5DDC6-AEA2-491C-906D-02FC8B17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8AEEC-FF6B-4353-8563-D6499B8D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69A4A-6507-493B-B258-1E0C8D5F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0BB-C0F9-4568-9A31-D641BCE8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EFD8-07F3-40F9-A789-762AED7C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2C995D-E935-416E-9271-FC29E2D5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AA519-4C16-4764-B6A2-BFBDE04B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E9D49-0F80-41E9-8921-4BDA9DDF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0C9E4E-9D39-4997-A50C-5BE16690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1B59E-6819-447A-9DAA-A9FDA9FF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DAA6B-C57B-43AB-BE15-2B92D5D6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F4F1C-7184-4E91-A9ED-A87F6B56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C7E9F-8A80-44DA-82ED-68C9EF19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AEBF48-24B7-491C-99F9-70ED9B3E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52B526-806B-4543-8AB9-A0520B67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F604-190C-43AE-A533-6FF6BEF5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11E14-AF4F-4EBD-9E10-EBFF5371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8EF37-EE1F-4216-8164-663A9C2B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1F858-BC08-4ABC-89A9-1152BB9F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B3B33-1EF5-4292-9CB8-7D3DED9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C83EF-058B-4D5B-A793-F1E640D7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89B9F5-37A6-43DE-9371-7245E647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9B1D5-997C-4A9B-844B-5B490D1C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D06DC-5A33-4E59-9AB6-CE2846FA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AEF56-D072-4F25-A9A2-D4134C88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09A0E1-FF8B-475B-BD03-1E38C1AF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0BA2-BEF2-485C-9105-839DF074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65D5A-C057-48C8-9266-FA10ED4A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669D9-91FB-47FD-A84A-A69076C1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7B9BF-2276-4F8F-AC71-34FA31D2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B42F13-37CF-457B-9918-6E373705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C17A1C-4A7C-44BD-AE66-8FC037BD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806B9E-DFEA-4BC3-97EF-E839FCED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91F55C-6993-4813-A99E-5296DA4A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EC6692-9DC8-422D-B666-779935AA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2305C-5494-4963-AD04-39B19AFA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383E4-915B-4536-B76E-B9D908F8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DCD8-F76F-41D7-A3C6-C3B7CF13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8A3E9-7923-4BF4-BA95-512422C9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9616A2-30A5-4C97-9F47-0272D83B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D6FB89-35D5-4365-9FB9-964EA138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8AE16-AC5C-4B3B-BDB7-6BD579B0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04A8A1-8AE8-4EF7-B408-CB7E7868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91A8A-FB4D-437D-A4C6-04474762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D44157-9F72-45DE-B84B-AB1BFAD6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683147-BAD5-493A-975B-3D5E5A66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184260-79A9-422D-B547-1E6DC40A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AC3758-5572-4DC7-AE1D-53758845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316D-3BCE-47ED-9710-19073CB8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60BE3-71E5-477F-892F-A7EDF3CC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926153-2000-4046-8F52-495E0FE6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B739F4-7705-43C2-977E-C914AAD8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812815-7A85-42FE-B2FB-DE4543F4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339D2B-F79C-4E7B-96C9-4F070FBA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20C8D-2BFE-467F-8FEF-A5D65210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ED87CB-4186-416F-B4B3-18B0E663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9EBACA-F8BE-423C-8834-D3A75FA9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2D9CA9-0753-4358-BA4A-15CDD79E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3D9D49-2B59-4DF0-8F89-B284292D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9648-D1FD-4670-A123-996E8924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073F97-D6E8-43ED-9ADA-850FEF7C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76C132-4217-482F-A8B1-C8756CE8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BDEC2-4401-4507-9786-3D3E6C4D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8365-A6D2-4A92-A878-D04674BF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9A8C-D2E3-4600-A629-49AD46C9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77E4-8D20-4C0B-8F5A-D8C28EAF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172DC-7CB0-4ECC-9DE1-6EAEF584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DBB-D5FE-48DC-B753-DC4A994D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F9DD-F80E-470A-803B-66BB992A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A355-A26E-4BB4-AB14-2EAF8DE0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22B51-D949-4BB8-B43B-2B3311FD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BE13-75C7-4AC4-9C7A-99ECCE27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4E16-040C-49F9-9DE1-2DCAF34F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ADF3-A421-4D7F-8E0E-D365FC2E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BFB4-BF76-46E8-B5E2-CFB56901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DD599-AAB8-4E06-B8ED-59AB0F82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59CDB-7EBA-44CD-9204-C649E138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4AB99-193D-40BA-9C65-486DF711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121-A3F2-4C2E-9C9D-17517111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3943C-1350-4467-80D0-D41F9D6F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AAB0C-65A2-4716-8534-137127C9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F8FD4-F4DF-4FF5-B9DF-13E19C7E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E4BB8-F725-4CDD-9C06-51CADE4E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6FBF6-B2F8-4F7C-A422-6E883BF1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A33F-D72C-4C32-8EA7-0FBBA23F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6054-3D9D-428B-806B-B9EC2CB5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66A78-3A4A-4B52-96AD-57941ACB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51D45-D7FF-488F-8B51-50E5466A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14D37-F9D5-40C7-A5A4-8DB2BB4A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0C2-D811-4D21-B86A-087A4EFE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209D6-42DD-471E-912B-DDAE4D2F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D3BA-F72B-40BF-89AD-CE95995A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4C211-0ABA-4282-9382-1890E419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52E49-3B07-4471-B3A0-05C4B17E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A7493-F860-4CDF-AFB5-7C0BB842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3ED10-15C9-4369-B046-9189A097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332A1-79E8-4779-82FD-148188A5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2BDBA-90A6-413F-8AF3-1BFC6A2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5EFEC-984B-4EA6-B481-11354A21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829BA-C977-49A1-BDAF-A869AACD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951-2B3B-4DB7-A634-2D6F60B0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5039F-6FE5-495B-870F-1B2A8C81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CEC0-CFEA-40ED-98A9-A3639460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E0BB8-F37B-4870-ADD3-506776E8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92AAC-1035-4C47-8316-92D9F34A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EF30-CB4A-48A5-83B3-4BD64988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F198A-A999-4B11-B077-D974AB03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A5DA8-235C-4C85-B9C5-B3DB7FE2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971F-1A3E-4662-A605-01DB853C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440E-9669-469E-AF31-0F4165E1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DF405-D3B3-46A3-B54C-5A381A84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CEB-A7D2-41C0-9BBB-A85FFA46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23B02-5DE3-4E8E-B246-1DBA1828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B2120-4876-46EB-81C8-A6CD2E6C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88889-BE30-4535-931A-E1C04717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D7165-6E18-4B67-9436-C6C4DF2E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10438-E963-4871-9D2D-D017089B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263EE-24CE-42A5-B9D8-9CFD8FB6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90E5D-9E36-464F-B5B3-7F2EADB4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D53C-8F56-4880-92DE-C1878194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08519-DFE5-4C1C-B3DF-93D9BB45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3D9B3-FDD8-4515-BEAC-BD3A4E21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C7A-C96F-47E3-8372-67E018B8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99EC0-0B47-4956-8434-7087CDE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F7BED-7D1D-46F0-A7AF-87C3C4A7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20C4C-4FFC-4618-BD6E-F515B0BB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8633C-9B44-43C8-B98E-71DEC2FF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9B4BD-3D3B-4B27-B1EE-76E25CB2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DD5AA-ADE0-4680-AFE9-1A6CB71D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49F95-E2BB-4BD8-876B-A19F7C90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20758-49CE-4907-9091-C92AD2FD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FD0B1-9550-4BDB-938B-1C2222CE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B6892-779E-4C13-8F1E-79BE0C7E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9E9-D5D8-4455-B815-BCDCCB40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C93E4-6FBF-4A9D-85C4-268B38D9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6F8EB-C906-4D89-A9EA-5AA3A152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D33C7-BF0B-4DB5-9C63-9B78B85A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0D0F8-1999-42EC-A25A-9DF174B3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B268F-7477-4FB2-B828-3BD8884A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D2E72-DB7C-45CB-A88A-EEBE8C7B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32A20-D067-487E-AF88-86E766D3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2D170-CB68-46CF-A347-76359CE0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629F3-6F88-446E-8445-4AC0E36B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BA071-9C25-47C7-A5AF-54BE8488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8C04-D9DD-4A72-A9F5-8A41C9FC8C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13E1-011F-47B4-9EB1-12EE6EC3D0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4665-43F0-435C-B764-69E223D425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800C-4293-4F0C-8EDD-07AE2C2A9C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757A-F038-4A52-A2AC-C5CAAE99BF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AA68-B617-49D8-AC43-25D9AEA365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CC2E-4B43-4058-8399-426E876E5A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8854-4294-4F2B-A336-CBDE0BDA51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51F5-0371-4D7F-863D-5E72CCF40B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64EF-8176-4D1A-A7CA-84E767BB6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5953-BA82-4B33-8811-418DCB5B05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3EE9-9042-44F3-B81C-5C8FE3FDBC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082C-569A-493D-B801-A490246580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560B-A39C-45F1-9712-E7495E1F32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FEEE-970F-4CBD-8DBA-BFFA4945D7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5B48-8CF6-403C-BFFB-00F76D5969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A0E4-6380-49F4-9765-4B47318796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3CA1-16FC-46B3-BD3B-37CF300023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56FE-494C-4D40-9263-A1D73C92F4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71C8-31A6-4C4F-A81E-B708541ABB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3E50-6C07-40C5-9740-DA6EA8EA2F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7DD7-71C3-46B5-A49B-7C21D2F6A9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0372-B134-4F25-B635-95440D1581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82EE-9624-4BD3-983B-F1549F6E72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0D0A-7C65-4F65-A230-0FB6EC2BA1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D6BB-609F-4834-A08D-69C802AC26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EEEF-974A-4486-A281-7D1EF596D7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4DAB-FE14-4C9B-9FC5-1827225B9E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5851-25CB-4480-B037-773B168BE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6F4C-B531-420C-B167-D573B9BECE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E0AC-FC54-4A55-AF6E-073F9DBD05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A175-C28D-4278-9D6C-CB2C7FFD9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FC6F-495A-464F-AA9D-F03EF4F7F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F8C8-6FD5-4E8A-A3C4-E38680F2B3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1BB6-FEA3-4CBD-A05A-214F9BAF5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6D47-9E96-4C26-82A2-041529757E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8B5A-1F74-4815-8142-8EAF30808B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A535-7055-4CC0-8041-98764C6D10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65F5-2210-4F3C-82AB-785633884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6743-A1C0-40CF-8C12-5D9D8B3827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191280" cy="116208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81" descr=""/>
          <p:cNvPicPr/>
          <p:nvPr/>
        </p:nvPicPr>
        <p:blipFill>
          <a:blip r:embed="rId2"/>
          <a:stretch/>
        </p:blipFill>
        <p:spPr>
          <a:xfrm>
            <a:off x="1547640" y="3213000"/>
            <a:ext cx="60487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79873" descr=""/>
          <p:cNvPicPr/>
          <p:nvPr/>
        </p:nvPicPr>
        <p:blipFill>
          <a:blip r:embed="rId1"/>
          <a:stretch/>
        </p:blipFill>
        <p:spPr>
          <a:xfrm>
            <a:off x="528480" y="1324080"/>
            <a:ext cx="8087040" cy="4209840"/>
          </a:xfrm>
          <a:prstGeom prst="rect">
            <a:avLst/>
          </a:prstGeom>
          <a:ln w="0">
            <a:noFill/>
          </a:ln>
        </p:spPr>
      </p:pic>
      <p:sp>
        <p:nvSpPr>
          <p:cNvPr id="1055" name="矩形 79874"/>
          <p:cNvSpPr/>
          <p:nvPr/>
        </p:nvSpPr>
        <p:spPr>
          <a:xfrm>
            <a:off x="7804080" y="303372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78849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001000" cy="154332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78850" descr=""/>
          <p:cNvPicPr/>
          <p:nvPr/>
        </p:nvPicPr>
        <p:blipFill>
          <a:blip r:embed="rId2"/>
          <a:stretch/>
        </p:blipFill>
        <p:spPr>
          <a:xfrm>
            <a:off x="1332000" y="2997360"/>
            <a:ext cx="2876400" cy="2904840"/>
          </a:xfrm>
          <a:prstGeom prst="rect">
            <a:avLst/>
          </a:prstGeom>
          <a:ln w="0">
            <a:noFill/>
          </a:ln>
        </p:spPr>
      </p:pic>
      <p:sp>
        <p:nvSpPr>
          <p:cNvPr id="1058" name="矩形 78851"/>
          <p:cNvSpPr/>
          <p:nvPr/>
        </p:nvSpPr>
        <p:spPr>
          <a:xfrm>
            <a:off x="4646520" y="2205000"/>
            <a:ext cx="1438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77825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7934400" cy="37152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77826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439040" cy="101916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77827" descr=""/>
          <p:cNvPicPr/>
          <p:nvPr/>
        </p:nvPicPr>
        <p:blipFill>
          <a:blip r:embed="rId3"/>
          <a:stretch/>
        </p:blipFill>
        <p:spPr>
          <a:xfrm>
            <a:off x="1042920" y="2781360"/>
            <a:ext cx="3219480" cy="2867040"/>
          </a:xfrm>
          <a:prstGeom prst="rect">
            <a:avLst/>
          </a:prstGeom>
          <a:ln w="0">
            <a:noFill/>
          </a:ln>
        </p:spPr>
      </p:pic>
      <p:sp>
        <p:nvSpPr>
          <p:cNvPr id="1062" name="矩形 77828"/>
          <p:cNvSpPr/>
          <p:nvPr/>
        </p:nvSpPr>
        <p:spPr>
          <a:xfrm>
            <a:off x="6977160" y="1413000"/>
            <a:ext cx="14112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7829"/>
          <p:cNvSpPr/>
          <p:nvPr/>
        </p:nvSpPr>
        <p:spPr>
          <a:xfrm>
            <a:off x="1001880" y="1946160"/>
            <a:ext cx="97776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77830"/>
          <p:cNvSpPr/>
          <p:nvPr/>
        </p:nvSpPr>
        <p:spPr>
          <a:xfrm>
            <a:off x="3124080" y="1957320"/>
            <a:ext cx="9781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76801" descr=""/>
          <p:cNvPicPr/>
          <p:nvPr/>
        </p:nvPicPr>
        <p:blipFill>
          <a:blip r:embed="rId1"/>
          <a:stretch/>
        </p:blipFill>
        <p:spPr>
          <a:xfrm>
            <a:off x="561960" y="1138320"/>
            <a:ext cx="8020080" cy="4581360"/>
          </a:xfrm>
          <a:prstGeom prst="rect">
            <a:avLst/>
          </a:prstGeom>
          <a:ln w="0">
            <a:noFill/>
          </a:ln>
        </p:spPr>
      </p:pic>
      <p:sp>
        <p:nvSpPr>
          <p:cNvPr id="1066" name="矩形 76802"/>
          <p:cNvSpPr/>
          <p:nvPr/>
        </p:nvSpPr>
        <p:spPr>
          <a:xfrm>
            <a:off x="1488960" y="1700280"/>
            <a:ext cx="14986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76803"/>
          <p:cNvSpPr/>
          <p:nvPr/>
        </p:nvSpPr>
        <p:spPr>
          <a:xfrm>
            <a:off x="7954920" y="1711440"/>
            <a:ext cx="6494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76804"/>
          <p:cNvSpPr/>
          <p:nvPr/>
        </p:nvSpPr>
        <p:spPr>
          <a:xfrm>
            <a:off x="1150920" y="2244600"/>
            <a:ext cx="198108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76805"/>
          <p:cNvSpPr/>
          <p:nvPr/>
        </p:nvSpPr>
        <p:spPr>
          <a:xfrm>
            <a:off x="1498680" y="3367080"/>
            <a:ext cx="21366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89089" descr=""/>
          <p:cNvPicPr/>
          <p:nvPr/>
        </p:nvPicPr>
        <p:blipFill>
          <a:blip r:embed="rId1"/>
          <a:stretch/>
        </p:blipFill>
        <p:spPr>
          <a:xfrm>
            <a:off x="547560" y="1523880"/>
            <a:ext cx="8048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90113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2286000" cy="39060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90114" descr=""/>
          <p:cNvPicPr/>
          <p:nvPr/>
        </p:nvPicPr>
        <p:blipFill>
          <a:blip r:embed="rId2"/>
          <a:stretch/>
        </p:blipFill>
        <p:spPr>
          <a:xfrm>
            <a:off x="1481040" y="1857240"/>
            <a:ext cx="6181920" cy="3143520"/>
          </a:xfrm>
          <a:prstGeom prst="rect">
            <a:avLst/>
          </a:prstGeom>
          <a:ln w="0">
            <a:noFill/>
          </a:ln>
        </p:spPr>
      </p:pic>
      <p:sp>
        <p:nvSpPr>
          <p:cNvPr id="1073" name="矩形 90115"/>
          <p:cNvSpPr/>
          <p:nvPr/>
        </p:nvSpPr>
        <p:spPr>
          <a:xfrm>
            <a:off x="934920" y="1197000"/>
            <a:ext cx="21243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图片 90118" descr=""/>
          <p:cNvPicPr/>
          <p:nvPr/>
        </p:nvPicPr>
        <p:blipFill>
          <a:blip r:embed="rId3"/>
          <a:stretch/>
        </p:blipFill>
        <p:spPr>
          <a:xfrm>
            <a:off x="971640" y="1844640"/>
            <a:ext cx="67914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91137" descr=""/>
          <p:cNvPicPr/>
          <p:nvPr/>
        </p:nvPicPr>
        <p:blipFill>
          <a:blip r:embed="rId1"/>
          <a:stretch/>
        </p:blipFill>
        <p:spPr>
          <a:xfrm>
            <a:off x="538200" y="1276200"/>
            <a:ext cx="80676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92161" descr=""/>
          <p:cNvPicPr/>
          <p:nvPr/>
        </p:nvPicPr>
        <p:blipFill>
          <a:blip r:embed="rId1"/>
          <a:stretch/>
        </p:blipFill>
        <p:spPr>
          <a:xfrm>
            <a:off x="838080" y="971640"/>
            <a:ext cx="7467840" cy="4914720"/>
          </a:xfrm>
          <a:prstGeom prst="rect">
            <a:avLst/>
          </a:prstGeom>
          <a:ln w="0">
            <a:noFill/>
          </a:ln>
        </p:spPr>
      </p:pic>
      <p:sp>
        <p:nvSpPr>
          <p:cNvPr id="1077" name="矩形 92163"/>
          <p:cNvSpPr/>
          <p:nvPr/>
        </p:nvSpPr>
        <p:spPr>
          <a:xfrm>
            <a:off x="1619280" y="1484280"/>
            <a:ext cx="6087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92164"/>
          <p:cNvSpPr/>
          <p:nvPr/>
        </p:nvSpPr>
        <p:spPr>
          <a:xfrm>
            <a:off x="1531800" y="2606760"/>
            <a:ext cx="6088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92165"/>
          <p:cNvSpPr/>
          <p:nvPr/>
        </p:nvSpPr>
        <p:spPr>
          <a:xfrm>
            <a:off x="2771640" y="3716280"/>
            <a:ext cx="7556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92166"/>
          <p:cNvSpPr/>
          <p:nvPr/>
        </p:nvSpPr>
        <p:spPr>
          <a:xfrm>
            <a:off x="5568840" y="4292640"/>
            <a:ext cx="2171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92171"/>
          <p:cNvSpPr/>
          <p:nvPr/>
        </p:nvSpPr>
        <p:spPr>
          <a:xfrm>
            <a:off x="5292720" y="4869000"/>
            <a:ext cx="7603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88065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847960" cy="7048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88066" descr=""/>
          <p:cNvPicPr/>
          <p:nvPr/>
        </p:nvPicPr>
        <p:blipFill>
          <a:blip r:embed="rId2"/>
          <a:stretch/>
        </p:blipFill>
        <p:spPr>
          <a:xfrm>
            <a:off x="409680" y="2023920"/>
            <a:ext cx="8324640" cy="28101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88067"/>
          <p:cNvSpPr/>
          <p:nvPr/>
        </p:nvSpPr>
        <p:spPr>
          <a:xfrm>
            <a:off x="1979640" y="1989000"/>
            <a:ext cx="576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8"/>
          <p:cNvSpPr/>
          <p:nvPr/>
        </p:nvSpPr>
        <p:spPr>
          <a:xfrm>
            <a:off x="4356000" y="202248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69"/>
          <p:cNvSpPr/>
          <p:nvPr/>
        </p:nvSpPr>
        <p:spPr>
          <a:xfrm>
            <a:off x="6164280" y="202248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0"/>
          <p:cNvSpPr/>
          <p:nvPr/>
        </p:nvSpPr>
        <p:spPr>
          <a:xfrm>
            <a:off x="2195640" y="285264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1"/>
          <p:cNvSpPr/>
          <p:nvPr/>
        </p:nvSpPr>
        <p:spPr>
          <a:xfrm>
            <a:off x="2484360" y="3654360"/>
            <a:ext cx="1629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2"/>
          <p:cNvSpPr/>
          <p:nvPr/>
        </p:nvSpPr>
        <p:spPr>
          <a:xfrm>
            <a:off x="4808520" y="407664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3"/>
          <p:cNvSpPr/>
          <p:nvPr/>
        </p:nvSpPr>
        <p:spPr>
          <a:xfrm>
            <a:off x="6473880" y="407664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8074"/>
          <p:cNvSpPr/>
          <p:nvPr/>
        </p:nvSpPr>
        <p:spPr>
          <a:xfrm>
            <a:off x="1814400" y="449100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8075"/>
          <p:cNvSpPr/>
          <p:nvPr/>
        </p:nvSpPr>
        <p:spPr>
          <a:xfrm>
            <a:off x="3665520" y="4479840"/>
            <a:ext cx="835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87041" descr=""/>
          <p:cNvPicPr/>
          <p:nvPr/>
        </p:nvPicPr>
        <p:blipFill>
          <a:blip r:embed="rId1"/>
          <a:stretch/>
        </p:blipFill>
        <p:spPr>
          <a:xfrm>
            <a:off x="399960" y="1685880"/>
            <a:ext cx="8344080" cy="3486240"/>
          </a:xfrm>
          <a:prstGeom prst="rect">
            <a:avLst/>
          </a:prstGeom>
          <a:ln w="0">
            <a:noFill/>
          </a:ln>
        </p:spPr>
      </p:pic>
      <p:sp>
        <p:nvSpPr>
          <p:cNvPr id="1036" name="矩形 87042"/>
          <p:cNvSpPr/>
          <p:nvPr/>
        </p:nvSpPr>
        <p:spPr>
          <a:xfrm>
            <a:off x="8244000" y="2997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8601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91600" cy="5553000"/>
          </a:xfrm>
          <a:prstGeom prst="rect">
            <a:avLst/>
          </a:prstGeom>
          <a:ln w="0">
            <a:noFill/>
          </a:ln>
        </p:spPr>
      </p:pic>
      <p:sp>
        <p:nvSpPr>
          <p:cNvPr id="1038" name="矩形 86018"/>
          <p:cNvSpPr/>
          <p:nvPr/>
        </p:nvSpPr>
        <p:spPr>
          <a:xfrm>
            <a:off x="2195640" y="2565360"/>
            <a:ext cx="1655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86019"/>
          <p:cNvSpPr/>
          <p:nvPr/>
        </p:nvSpPr>
        <p:spPr>
          <a:xfrm>
            <a:off x="5003640" y="2967120"/>
            <a:ext cx="216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6020"/>
          <p:cNvSpPr/>
          <p:nvPr/>
        </p:nvSpPr>
        <p:spPr>
          <a:xfrm>
            <a:off x="5796000" y="5661000"/>
            <a:ext cx="936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6021"/>
          <p:cNvSpPr/>
          <p:nvPr/>
        </p:nvSpPr>
        <p:spPr>
          <a:xfrm>
            <a:off x="866880" y="6026040"/>
            <a:ext cx="536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6022"/>
          <p:cNvSpPr/>
          <p:nvPr/>
        </p:nvSpPr>
        <p:spPr>
          <a:xfrm>
            <a:off x="866880" y="6048360"/>
            <a:ext cx="536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84993" descr=""/>
          <p:cNvPicPr/>
          <p:nvPr/>
        </p:nvPicPr>
        <p:blipFill>
          <a:blip r:embed="rId1"/>
          <a:stretch/>
        </p:blipFill>
        <p:spPr>
          <a:xfrm>
            <a:off x="376200" y="2233440"/>
            <a:ext cx="8391600" cy="2391120"/>
          </a:xfrm>
          <a:prstGeom prst="rect">
            <a:avLst/>
          </a:prstGeom>
          <a:ln w="0">
            <a:noFill/>
          </a:ln>
        </p:spPr>
      </p:pic>
      <p:sp>
        <p:nvSpPr>
          <p:cNvPr id="1044" name="矩形 84994"/>
          <p:cNvSpPr/>
          <p:nvPr/>
        </p:nvSpPr>
        <p:spPr>
          <a:xfrm>
            <a:off x="2784600" y="3546360"/>
            <a:ext cx="8506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4995"/>
          <p:cNvSpPr/>
          <p:nvPr/>
        </p:nvSpPr>
        <p:spPr>
          <a:xfrm>
            <a:off x="4548240" y="3546360"/>
            <a:ext cx="8506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84996"/>
          <p:cNvSpPr/>
          <p:nvPr/>
        </p:nvSpPr>
        <p:spPr>
          <a:xfrm>
            <a:off x="2567160" y="3933720"/>
            <a:ext cx="42048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83969" descr=""/>
          <p:cNvPicPr/>
          <p:nvPr/>
        </p:nvPicPr>
        <p:blipFill>
          <a:blip r:embed="rId1"/>
          <a:stretch/>
        </p:blipFill>
        <p:spPr>
          <a:xfrm>
            <a:off x="590400" y="1409760"/>
            <a:ext cx="7963200" cy="40384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83970"/>
          <p:cNvSpPr/>
          <p:nvPr/>
        </p:nvSpPr>
        <p:spPr>
          <a:xfrm>
            <a:off x="7740720" y="270828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82945" descr=""/>
          <p:cNvPicPr/>
          <p:nvPr/>
        </p:nvPicPr>
        <p:blipFill>
          <a:blip r:embed="rId1"/>
          <a:stretch/>
        </p:blipFill>
        <p:spPr>
          <a:xfrm>
            <a:off x="533520" y="1585800"/>
            <a:ext cx="8076960" cy="3686400"/>
          </a:xfrm>
          <a:prstGeom prst="rect">
            <a:avLst/>
          </a:prstGeom>
          <a:ln w="0">
            <a:noFill/>
          </a:ln>
        </p:spPr>
      </p:pic>
      <p:sp>
        <p:nvSpPr>
          <p:cNvPr id="1050" name="矩形 82946"/>
          <p:cNvSpPr/>
          <p:nvPr/>
        </p:nvSpPr>
        <p:spPr>
          <a:xfrm>
            <a:off x="4832280" y="275112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81922" descr=""/>
          <p:cNvPicPr/>
          <p:nvPr/>
        </p:nvPicPr>
        <p:blipFill>
          <a:blip r:embed="rId1"/>
          <a:stretch/>
        </p:blipFill>
        <p:spPr>
          <a:xfrm>
            <a:off x="533520" y="1290600"/>
            <a:ext cx="8076960" cy="4276800"/>
          </a:xfrm>
          <a:prstGeom prst="rect">
            <a:avLst/>
          </a:prstGeom>
          <a:ln w="0">
            <a:noFill/>
          </a:ln>
        </p:spPr>
      </p:pic>
      <p:sp>
        <p:nvSpPr>
          <p:cNvPr id="1052" name="矩形 81923"/>
          <p:cNvSpPr/>
          <p:nvPr/>
        </p:nvSpPr>
        <p:spPr>
          <a:xfrm>
            <a:off x="7737480" y="5189400"/>
            <a:ext cx="576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80897" descr=""/>
          <p:cNvPicPr/>
          <p:nvPr/>
        </p:nvPicPr>
        <p:blipFill>
          <a:blip r:embed="rId1"/>
          <a:stretch/>
        </p:blipFill>
        <p:spPr>
          <a:xfrm>
            <a:off x="1819440" y="2395440"/>
            <a:ext cx="55051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2:59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